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7005638" cy="9291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5600" cy="929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79000" y="696600"/>
            <a:ext cx="4645080" cy="348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33CB9-C189-469D-8970-3BC28632C4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4C1DC-1BE3-4C42-B4A7-DC360BB145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0DA39-0D86-4479-B076-2A945EC162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83C0E-1DE2-4FC9-8F07-9007E33427F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EA759-C979-47C0-AC0C-1C0D65ADFA5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C1A4A-262F-4D0D-9CA9-921FC41896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48A7D-4CD6-4A81-B115-A93FC8049A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2FE00-4D8A-4414-B445-7D463F6793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DAEF9-2561-4AFC-A103-D852F93AE4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5F4C8-F27C-4752-9EBE-A72CDB4B12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170B9-028C-47FC-852A-E9B23EAB94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E3B5E-D1B4-4B9E-8439-B2FF628912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4CB60-31C3-41BA-8968-B70EFEE59BE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" descr=""/>
          <p:cNvPicPr/>
          <p:nvPr/>
        </p:nvPicPr>
        <p:blipFill>
          <a:blip r:embed="rId3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325440" y="270000"/>
            <a:ext cx="2654280" cy="7300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7640F-147E-4381-9007-91B5BA17BBF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23619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490d8"/>
                </a:solidFill>
                <a:latin typeface="Tahoma"/>
                <a:ea typeface="Tahoma"/>
              </a:rPr>
              <a:t>Math CAMPPP 2011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837720" y="2666520"/>
            <a:ext cx="762012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4800" spc="-1" strike="noStrike">
                <a:solidFill>
                  <a:srgbClr val="000000"/>
                </a:solidFill>
                <a:latin typeface="Arial"/>
              </a:rPr>
              <a:t>Pursuing Broader Perspectiv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4000" spc="-1" strike="noStrike">
                <a:solidFill>
                  <a:srgbClr val="000000"/>
                </a:solidFill>
                <a:latin typeface="Arial"/>
              </a:rPr>
              <a:t>Proportional Reasonin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4000" spc="-1" strike="noStrike">
                <a:solidFill>
                  <a:srgbClr val="000000"/>
                </a:solidFill>
                <a:latin typeface="Arial"/>
              </a:rPr>
              <a:t>Breakout #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Proportional Reasoning– Breakout 1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80880" y="6854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onsolidate:  Feedback</a:t>
            </a: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 ~ 5 m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ink about a question you have from toda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’m wondering about….”</a:t>
            </a:r>
            <a:br>
              <a:rPr sz="2000"/>
            </a:b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”I’m confused about…..”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 would like to learn more about….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cord it on a sticky note, and attach it to your glyp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1AA4E-E41F-4E2B-A127-672762DB0F3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A35CA-D38D-4080-A602-7475FB18EE5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Proportional Reasoning – Breakout 1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Learning Goa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Getting to know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Identify key proportional reasoning concepts in a sample grade 9 probl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Practice “responding to students in the moment“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99BC5-EA07-4386-A0FA-366C54C701D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F2C43-7430-44E0-8DFB-F78DB6FBC30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Proportional Reasoning – Breakout 1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CACA6-79F0-433B-926F-A8ED38588FB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58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F7661-5DF7-4EC4-898D-AAB8A02F73A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380880" y="1066680"/>
            <a:ext cx="82296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132120" tIns="50760" bIns="50760" anchor="t">
            <a:noAutofit/>
          </a:bodyPr>
          <a:p>
            <a:pPr marL="1149480" indent="-48132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Minds On:  Who are We?  ~ 15 m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149480" indent="-48132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149480" indent="-481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ce stickers on chart paper to create bar gra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9480" indent="-48132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9480" indent="-481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9480" indent="-481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re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ersonal Glyph -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structions on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9480" indent="-48132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9480" indent="-481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ring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352680" y="2743200"/>
            <a:ext cx="228600" cy="22860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352680" y="30481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809880" y="2666880"/>
            <a:ext cx="518184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ourses you have experience 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One or two courses your interested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Experienced AND interes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76720" y="3352680"/>
            <a:ext cx="228600" cy="22860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505320" y="33526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Proportional Reasoning – Breakout 1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80880" y="6854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Minds On: Personal Goals ~ 20 m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flect on the Question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i="1" lang="en-US" sz="2400" spc="-1" strike="noStrike">
                <a:solidFill>
                  <a:srgbClr val="009999"/>
                </a:solidFill>
                <a:latin typeface="Arial"/>
                <a:ea typeface="Times New Roman"/>
              </a:rPr>
              <a:t>Why did you come to Math CAMPPP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  <a:ea typeface="Times New Roman"/>
              </a:rPr>
              <a:t>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hare with your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llustrate your groups’ responses on chart paper</a:t>
            </a: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49595-B73D-4C8A-91DB-B75E5F97F60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69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40833-F8DC-4A2E-94F4-5680C7950E5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5029200" y="990720"/>
            <a:ext cx="3429000" cy="7617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648320" y="4800600"/>
            <a:ext cx="3200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Proportional Reasoning – Breakout 1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80880" y="6091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 fontScale="97000"/>
          </a:bodyPr>
          <a:p>
            <a:pPr marL="629640" indent="-591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29640" indent="-591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Action ~ 10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29640" indent="-591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Grade 9 Math Problem – Keepin’ Ta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29640" indent="-591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A student council collects aluminium pop tabs to raise money to purchase a wheel chair. A company buys the pop tabs for $0.88 per kilogra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29640" indent="-591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If 1267 pop tabs have a mass of one pound, how many pop tabs are needed to purchase a wheelchair worth $1500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29640" indent="-591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What important proportional reasoning concepts do you see in this problem from a grade 9 content perspectiv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29640" indent="-591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29640" indent="-591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Show your work.</a:t>
            </a: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Hi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29640" indent="-591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1 kilogram = 2.2 pou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29640" indent="-591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29640" indent="-591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3D2F5-0462-428D-8531-65695EBEF04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AD44F-EF63-4FFC-8A1E-D160135408F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34120" y="114300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2400" spc="-1" strike="noStrike">
                <a:solidFill>
                  <a:srgbClr val="cc0099"/>
                </a:solidFill>
                <a:latin typeface="Arial"/>
              </a:rPr>
              <a:t>Solve with a part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5943240" y="1523880"/>
            <a:ext cx="60948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Proportional Reasoning – Breakout 1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380880" y="6854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Action ~10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raft a ‘student solution’.  Think about possible student  approaches/misconceptions as you create your sol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76625-7338-47B6-9E0B-76A584863D2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83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76F4B-78F1-49BA-9C73-09839F0AFA6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334120" y="990720"/>
            <a:ext cx="2666880" cy="9903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cc0099"/>
                </a:solidFill>
                <a:latin typeface="Arial"/>
              </a:rPr>
              <a:t>With your part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Proportional Reasoning – Breakout 1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380880" y="6854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Action ~15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ind another pai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One pair takes the role of the student.  Role play your sol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he other pair takes the role of the teacher.  Practice responding to students in the mo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Reverse ro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97B12-2F4E-4AFC-AE45-D9392835226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0CF56-761B-4D03-ABF5-EF3D8550F97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5ca9"/>
                </a:solidFill>
                <a:latin typeface="Arial"/>
              </a:rPr>
              <a:t>Proportional Reasoning</a:t>
            </a: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 – Breakout 1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 fontScale="88000"/>
          </a:bodyPr>
          <a:p>
            <a:pPr marL="571320" indent="-536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320" indent="-536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Consolidate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: Organizer</a:t>
            </a: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 ~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 m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320" indent="-536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71320" indent="-536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eate an organizer to help you record and reflect on your personal  learning journ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320" indent="-536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1560" indent="-46944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Perspective Passpor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06720" indent="-40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i-book to record interesting perspec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71560" indent="-46944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71560" indent="-46944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Math M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06720" indent="-40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phic organizer to illustrate your travels and the pathways between your id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EF223-F5B1-4913-AF97-88AFA139FB7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94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7C6AB-2939-484A-9847-CAD5C76E3B3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5ca9"/>
                </a:solidFill>
                <a:latin typeface="Arial"/>
              </a:rPr>
              <a:t>Proportional Reasoning</a:t>
            </a: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 – Breakout 1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80880" y="6854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onsolidate: Personal Reflection</a:t>
            </a: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 ~ 5 m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flect on your learning today, and record your though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nsid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- interesting  ideas and strate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- questions, things to follow up 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7392E-6B1A-4413-B31F-DDAD3B85C76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99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30914-E338-4BCB-9D06-CB19AB9BBBB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SC</dc:creator>
  <dc:description/>
  <cp:keywords/>
  <dc:language>en-US</dc:language>
  <cp:lastModifiedBy>Cheryl</cp:lastModifiedBy>
  <dcterms:modified xsi:type="dcterms:W3CDTF">2011-08-07T18:53:25Z</dcterms:modified>
  <cp:revision>23</cp:revision>
  <dc:subject/>
  <dc:title>&lt;Title&gt;</dc:title>
</cp:coreProperties>
</file>